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767-BD9B-4AEA-9FC0-91575669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12F-26AC-49A6-9B52-E97B5AD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A9E-97DB-4D00-B09C-0EFAD35B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9B8-7FAB-4437-B905-5E1B2484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3915-D0FC-4A98-8CE8-2FD7DAC0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CACE-6008-48E6-9C9A-738CEAB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6CF-8104-4DCF-BAF3-4804A69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A25-CF96-4468-A697-3CD3115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411-237C-4F34-AEFD-8E42F36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10C-9575-4655-A545-6866751C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10DF-F7C2-4E96-9CEC-B143935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F6D-5112-409F-B582-51ECF5B8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ABDF-6BDD-4BDA-B3D8-E4C1867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A5C9-4CD6-438E-8E18-3259FF3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BA97-3938-4F52-B2C7-CEC2B06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FB7-EE2B-4B57-A448-363159D9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1E17-51B4-4C63-978C-55934AB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786-FC70-433E-BE44-32E0594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497-0A5F-4FDF-9E73-080C4B3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99-F55A-43B5-AF94-F19A57BA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369-416A-4314-914B-49FE0AC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A09-89EA-40D6-B7E9-95F0303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3A1-746A-48EE-AA79-888E07B6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707-DBC4-4EC7-96AC-049074A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F964-2A86-4AE1-BE01-A987D54025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2526-DBDC-4CC3-B92E-A29CFE5C060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volution is N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f this is what evolution is NOT….then what is evolutio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olution i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dual change in a species through adaptations over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ypothesis v. The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 - Explanation for a question or a problem that can be formally tes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 – explanation of natural phenomenon supported by a large body of scientific evidence obtained from many different investigations and observ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olution is NOT a fact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a theory:  a highly probable explanation affecting all biological phenomena, with much supporting evidence, and NO evidence against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concerned with the origin of lif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ly the origin of spec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just concerned with the origin of humans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 more or less than any other spec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was NOT first explained by Charles Darwin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other people proposed the general idea long before Darwin di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the same as natural selectio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selection deals with how evolution can take place; this idea was first proposed by Charles Darw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something which happened only in the past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still going on toda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something which happens to individuals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olution happens to popul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an accidental or random process…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built in limits and constraints; it is influenced by both historical circumstances and environmental facto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44:09Z</dcterms:created>
  <dc:creator>Clear Creek ISD</dc:creator>
  <dc:description/>
  <dc:language>en-US</dc:language>
  <cp:lastModifiedBy>Clear Creek ISD</cp:lastModifiedBy>
  <dcterms:modified xsi:type="dcterms:W3CDTF">2010-01-26T14:37:50Z</dcterms:modified>
  <cp:revision>3</cp:revision>
  <dc:subject/>
  <dc:title>What Evolution is NOT</dc:title>
</cp:coreProperties>
</file>